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ED7-D655-4154-83B7-3F8BC940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7A2-512F-4A4F-B161-9E0B369D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A41-E135-437F-A8F9-7ABD8DD5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D31-396A-4DF8-ABDE-5F0E0AAD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0A9-CD88-47B8-B0EB-68C23DAC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175-BD83-44AE-BAD3-46E7A0F4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8D3-77A0-4C83-BB81-067FF2F3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4D8-90D0-4893-B156-D46622F9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7F4-305F-45C9-B3DA-1ABC0414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D43-8D9F-41B9-97B0-EF304AD4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AF8-CF60-4E98-8F59-F44C766B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DEE-6C8E-4C93-B1D6-B6921C49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AFB7-77D6-4208-8102-15C12409B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ondensatio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unoff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epage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evaporatio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cipitatio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root uptake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ranspir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643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955800" y="990720"/>
            <a:ext cx="6129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62120" y="1479600"/>
            <a:ext cx="73263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10:55Z</dcterms:created>
  <dc:creator>MVanElli</dc:creator>
  <dc:description/>
  <dc:language>en-US</dc:language>
  <cp:lastModifiedBy>Preferred Customer</cp:lastModifiedBy>
  <dcterms:modified xsi:type="dcterms:W3CDTF">2010-12-01T02:53:40Z</dcterms:modified>
  <cp:revision>3</cp:revision>
  <dc:subject/>
  <dc:title>Condensation runoff  seepage evaporation  precipitation root uptake transpiration</dc:title>
</cp:coreProperties>
</file>